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4.jpeg" ContentType="image/jpeg"/>
  <Override PartName="/ppt/media/image12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E5C9-1D11-4D96-9975-8B151953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6BB7-C0B3-4B5D-8FAF-9C6DF4C7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693B-FDA0-4C36-A0B2-12F3B360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B684-63E8-4FC8-8EE9-5C146B4E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641B4-A82D-45BB-B07A-5A9D5605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A2AF6-EDE6-4EB2-84EC-12ED0A18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EDA8A-F6B5-4C3E-91E8-CE1FC3AB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B1B7D-6106-49CD-959B-264EFC09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EF0CC-DB2B-4663-9FF2-DACDE498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0ABDB-5EDD-446B-B915-6FEB5EBD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C8194-137F-4526-BEFE-0FFDFB44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D32-9062-4BB4-A0C9-1E9442AF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126F2-B236-4135-A822-4F416436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5BA28-BC53-4392-B214-C18B12ED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7C157-9D5D-4FE9-84FE-96E8B20E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5E86A-6945-43A0-837B-E2C2AF41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5A241-35EF-465C-9F35-8F79A496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3075A-F0B0-432C-AC06-5A5CF641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A454E-E541-4A68-AFB4-24BE24C1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F039D-8294-4522-B929-8A777E92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0A473-5852-4A0A-B71B-60959309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4202A-36CD-4EA4-A3AB-36F726FF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9A81-BAE5-4CC7-B0BB-1456B78D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61A04-1044-4800-83F5-262F56B1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546FB-04A0-412A-B284-24ECB3B9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BAC15-4AEF-455A-9143-62846DF1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A6DAA-A4CD-492D-B00B-6156BCF0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9EA30-6F87-4EF9-A149-64190A99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7F9A2-1151-491A-9E18-DF40C9D8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0191D-9123-4B9F-BF4A-6BB205E2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7C5121-CE70-4024-B7C5-061CC686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FC4508-6BC1-405B-8116-18E1AD87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2F9FBB-E78E-4F21-9BE5-96FC9F95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114D-F72B-420E-B081-A55BDB23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D03E21-7656-4F03-8C60-EBF00582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BA8366-E746-44D0-BDD2-A6EAB227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876A3E-C0EB-4AF9-8F12-89DC7A80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E9D5CE-C6A8-4364-93D9-149BFA70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620A6D-D7E3-4F5E-9EC5-F3F3232D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0A7E00-3CD7-4C77-AB96-E6797A1C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3D137F-45DC-4B38-9415-371BD5A4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73F7EB-5313-4096-A40C-86B6C506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342E66-AE78-4EFD-99C8-BA09B6D3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05ACBE-D9AF-4A42-8469-0B4BF5BE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261-586D-4E21-949A-8C9A083B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7E328C-2671-43C9-BDA7-4D3FD2E9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666F13-2929-41AE-B9AB-2D450859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263E8-C17D-4FC7-8FC7-3002B300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8BB11-A5C0-4E68-BB9F-3FE31D02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BE88DE-7006-4FDD-BC3B-C24FEDDE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30A053-30D7-4A7D-9C29-F0BC6321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CAB9A1-4CAB-4BCF-9AE0-69B48437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16F2C4-5A83-4302-A182-7BFC85F7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BBDE2B-F9EA-4117-9F56-32850D8D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92DA5A-F9E4-4FE6-9BE5-FEEC7108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CF2D-3F40-4F26-A426-F02F7AEF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092A5-98B3-4BDB-A48D-A977FA83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8E5913-E9E0-4BA8-909D-AA72BFB5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E59EE1-DCA2-4FE5-89A6-F5CC475A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2D9A5-5817-4916-B988-D5A9C710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BD6BF8-51BB-43CC-B143-BB1D1193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955F68-129F-4D2D-AF56-ECFC22C6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C462D6-80AD-4295-9820-8FA7F459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688F2A-9D17-4640-9FAD-5A28842A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CD50EB-6C6C-4361-AD4B-DB5BFA18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43BD85-404D-4074-BBE0-C7A2E4B7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2F5-924B-4168-9165-107DDE88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1F2102-1B68-4797-8BFD-DAAF8A92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0E3B27-80E9-407D-B952-E766294A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B977ED-06C2-4FAB-8910-0DEDC2C7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CF0-E204-4737-B218-B4438891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8DED-981E-4B33-8C1B-52DDF074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68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9FF1-3110-473D-8E8A-D459B3F2898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68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31A5-6105-4EFB-8E47-6C07046CC59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68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619E-9B65-464A-B71B-7B7EB92F9B32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68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97AD-69A8-40E2-B90D-F82DC723B2E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68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DCD8-017F-4B48-AC30-752B9448A11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68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C74F-F180-4CF6-8460-9982160D912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The Biosphere: An Introduction to Earth’s Diverse Environment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25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a5b592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atchiness of the environment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Characterizes the biosphere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79" name="Group 6"/>
          <p:cNvGrpSpPr/>
          <p:nvPr/>
        </p:nvGrpSpPr>
        <p:grpSpPr>
          <a:xfrm>
            <a:off x="152640" y="2085840"/>
            <a:ext cx="8508240" cy="4108680"/>
            <a:chOff x="152640" y="2085840"/>
            <a:chExt cx="8508240" cy="4108680"/>
          </a:xfrm>
        </p:grpSpPr>
        <p:pic>
          <p:nvPicPr>
            <p:cNvPr id="280" name="Picture 4" descr="_x001e_34_02bEnvironPatchiness_UP.jpg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1377720" y="2085840"/>
              <a:ext cx="728316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5"/>
            <p:cNvSpPr/>
            <p:nvPr/>
          </p:nvSpPr>
          <p:spPr>
            <a:xfrm>
              <a:off x="152640" y="5576760"/>
              <a:ext cx="12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2B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3 Environmental problems reveal the limits of the biosphe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uman activities, including the widespread use of chemical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ffect all parts of the biosphere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467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achel Carson, a famous ecologist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Was one of the first people to perceive the global dangers of pesticide use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85" name="Group 6"/>
          <p:cNvGrpSpPr/>
          <p:nvPr/>
        </p:nvGrpSpPr>
        <p:grpSpPr>
          <a:xfrm>
            <a:off x="2756160" y="2405160"/>
            <a:ext cx="4284360" cy="4092480"/>
            <a:chOff x="2756160" y="2405160"/>
            <a:chExt cx="4284360" cy="4092480"/>
          </a:xfrm>
        </p:grpSpPr>
        <p:pic>
          <p:nvPicPr>
            <p:cNvPr id="286" name="Picture 4" descr="_x0018_34_03RachelCarson_UP.jpg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4164120" y="2405160"/>
              <a:ext cx="2876400" cy="40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5"/>
            <p:cNvSpPr/>
            <p:nvPr/>
          </p:nvSpPr>
          <p:spPr>
            <a:xfrm>
              <a:off x="2756160" y="608184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6840" y="488520"/>
            <a:ext cx="7467480" cy="56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4 Physical and chemical factors influence life in the biosphe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biotic factors determining the biosphere’s structure and dynamics includ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olar energy, water, temperature, wind, and disturbance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89" name="Group 7"/>
          <p:cNvGrpSpPr/>
          <p:nvPr/>
        </p:nvGrpSpPr>
        <p:grpSpPr>
          <a:xfrm>
            <a:off x="4186440" y="3122640"/>
            <a:ext cx="4201920" cy="3040920"/>
            <a:chOff x="4186440" y="3122640"/>
            <a:chExt cx="4201920" cy="3040920"/>
          </a:xfrm>
        </p:grpSpPr>
        <p:pic>
          <p:nvPicPr>
            <p:cNvPr id="290" name="Picture 5" descr="_x0018_34_04FireRecovery_UP.jpg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5651640" y="3122640"/>
              <a:ext cx="27367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6"/>
            <p:cNvSpPr/>
            <p:nvPr/>
          </p:nvSpPr>
          <p:spPr>
            <a:xfrm>
              <a:off x="4186440" y="585648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4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04920" y="685440"/>
            <a:ext cx="853416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34.5 Organisms are adapted to abiotic and biotic factors by natural selec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Unique adaptation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low the survival of organisms in particular habita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93" name="Group 6"/>
          <p:cNvGrpSpPr/>
          <p:nvPr/>
        </p:nvGrpSpPr>
        <p:grpSpPr>
          <a:xfrm>
            <a:off x="2384640" y="3063960"/>
            <a:ext cx="5771880" cy="3467160"/>
            <a:chOff x="2384640" y="3063960"/>
            <a:chExt cx="5771880" cy="3467160"/>
          </a:xfrm>
        </p:grpSpPr>
        <p:pic>
          <p:nvPicPr>
            <p:cNvPr id="294" name="Picture 4" descr="_x0016_34_05Pronghorns_UP.jpg  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3908520" y="3063960"/>
              <a:ext cx="4248000" cy="34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5"/>
            <p:cNvSpPr/>
            <p:nvPr/>
          </p:nvSpPr>
          <p:spPr>
            <a:xfrm>
              <a:off x="2384640" y="622152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5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Biotic factors, such as predation and competi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Can lead to the evolution of adaptations by natural selection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6 Regional climate influences the distribution of biological communit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Most climatic variation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re due to the uneven heating of Earth’s surface as it orbits the sun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98" name="Group 22"/>
          <p:cNvGrpSpPr/>
          <p:nvPr/>
        </p:nvGrpSpPr>
        <p:grpSpPr>
          <a:xfrm>
            <a:off x="2813040" y="3227400"/>
            <a:ext cx="4448160" cy="3264120"/>
            <a:chOff x="2813040" y="3227400"/>
            <a:chExt cx="4448160" cy="3264120"/>
          </a:xfrm>
        </p:grpSpPr>
        <p:pic>
          <p:nvPicPr>
            <p:cNvPr id="299" name="Picture 5" descr="_x001c_34_06aSolarRadLatitude_U.jpg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2813040" y="3227400"/>
              <a:ext cx="3317760" cy="29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6"/>
            <p:cNvSpPr/>
            <p:nvPr/>
          </p:nvSpPr>
          <p:spPr>
            <a:xfrm>
              <a:off x="3121200" y="3673440"/>
              <a:ext cx="1361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w angle of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coming sunlight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7"/>
            <p:cNvSpPr/>
            <p:nvPr/>
          </p:nvSpPr>
          <p:spPr>
            <a:xfrm>
              <a:off x="3211920" y="4660920"/>
              <a:ext cx="121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nlight strikes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st directly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8"/>
            <p:cNvSpPr/>
            <p:nvPr/>
          </p:nvSpPr>
          <p:spPr>
            <a:xfrm>
              <a:off x="3249720" y="5419800"/>
              <a:ext cx="1361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w angle of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coming sunlight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9"/>
            <p:cNvSpPr/>
            <p:nvPr/>
          </p:nvSpPr>
          <p:spPr>
            <a:xfrm>
              <a:off x="4826880" y="6215040"/>
              <a:ext cx="10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mospher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0"/>
            <p:cNvSpPr/>
            <p:nvPr/>
          </p:nvSpPr>
          <p:spPr>
            <a:xfrm flipH="1">
              <a:off x="5437080" y="6219720"/>
              <a:ext cx="393840" cy="54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6275160" y="5932440"/>
              <a:ext cx="930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0º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uth Pol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12"/>
            <p:cNvSpPr/>
            <p:nvPr/>
          </p:nvSpPr>
          <p:spPr>
            <a:xfrm>
              <a:off x="6276600" y="5165640"/>
              <a:ext cx="842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ropic of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pricorn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º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6275880" y="485604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º (equator)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14"/>
            <p:cNvSpPr/>
            <p:nvPr/>
          </p:nvSpPr>
          <p:spPr>
            <a:xfrm>
              <a:off x="6285240" y="4137120"/>
              <a:ext cx="775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ºN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ropic of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ncer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Text Box 15"/>
            <p:cNvSpPr/>
            <p:nvPr/>
          </p:nvSpPr>
          <p:spPr>
            <a:xfrm>
              <a:off x="6277680" y="3492360"/>
              <a:ext cx="90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rth Pol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0º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Text Box 17"/>
          <p:cNvSpPr/>
          <p:nvPr/>
        </p:nvSpPr>
        <p:spPr>
          <a:xfrm>
            <a:off x="938520" y="603108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ure 34.6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5" descr="_x0019_34_06bTiltAndSeason_U.jpg                                      0051D989_x0003_203                            BE7A9149:"/>
          <p:cNvPicPr/>
          <p:nvPr/>
        </p:nvPicPr>
        <p:blipFill>
          <a:blip r:embed="rId1"/>
          <a:stretch/>
        </p:blipFill>
        <p:spPr>
          <a:xfrm>
            <a:off x="1768320" y="2292480"/>
            <a:ext cx="5321520" cy="3989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tilt of the Earth’s ax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Causes the changes of the seasons in the northern and southern hemisphere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797480" y="2763720"/>
            <a:ext cx="127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ne solsti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th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isphere ti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 sun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5211000" y="2530440"/>
            <a:ext cx="125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h equin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quator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directly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2028240" y="4971960"/>
            <a:ext cx="98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ant til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23.5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3081240" y="5478480"/>
            <a:ext cx="9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ptemb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quinox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5230080" y="5189400"/>
            <a:ext cx="178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c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 from su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sti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th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isphere tilt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2249640" y="555624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34.6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uneven heating of the Earth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lso sets up patterns of precipitation and prevailing wind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320" name="Group 32"/>
          <p:cNvGrpSpPr/>
          <p:nvPr/>
        </p:nvGrpSpPr>
        <p:grpSpPr>
          <a:xfrm>
            <a:off x="272880" y="2187720"/>
            <a:ext cx="8870760" cy="3579840"/>
            <a:chOff x="272880" y="2187720"/>
            <a:chExt cx="8870760" cy="3579840"/>
          </a:xfrm>
        </p:grpSpPr>
        <p:grpSp>
          <p:nvGrpSpPr>
            <p:cNvPr id="321" name="Group 30"/>
            <p:cNvGrpSpPr/>
            <p:nvPr/>
          </p:nvGrpSpPr>
          <p:grpSpPr>
            <a:xfrm>
              <a:off x="272880" y="2271600"/>
              <a:ext cx="5159160" cy="3476880"/>
              <a:chOff x="272880" y="2271600"/>
              <a:chExt cx="5159160" cy="3476880"/>
            </a:xfrm>
          </p:grpSpPr>
          <p:pic>
            <p:nvPicPr>
              <p:cNvPr id="322" name="Picture 5" descr="_x0019_34_06cWindRainCause_U.jpg                                      0051D989_x0003_203                            BE7A9149:"/>
              <p:cNvPicPr/>
              <p:nvPr/>
            </p:nvPicPr>
            <p:blipFill>
              <a:blip r:embed="rId1"/>
              <a:stretch/>
            </p:blipFill>
            <p:spPr>
              <a:xfrm>
                <a:off x="272880" y="2271600"/>
                <a:ext cx="5159160" cy="347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Text Box 6"/>
              <p:cNvSpPr/>
              <p:nvPr/>
            </p:nvSpPr>
            <p:spPr>
              <a:xfrm>
                <a:off x="490680" y="3532320"/>
                <a:ext cx="9885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scending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ry air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bsorb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ist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Text Box 7"/>
              <p:cNvSpPr/>
              <p:nvPr/>
            </p:nvSpPr>
            <p:spPr>
              <a:xfrm>
                <a:off x="1450080" y="4137120"/>
                <a:ext cx="1012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de winds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Text Box 8"/>
              <p:cNvSpPr/>
              <p:nvPr/>
            </p:nvSpPr>
            <p:spPr>
              <a:xfrm>
                <a:off x="2405520" y="3772080"/>
                <a:ext cx="895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scending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ist air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lease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ist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Text Box 9"/>
              <p:cNvSpPr/>
              <p:nvPr/>
            </p:nvSpPr>
            <p:spPr>
              <a:xfrm>
                <a:off x="3202560" y="4119480"/>
                <a:ext cx="1012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de winds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10"/>
              <p:cNvSpPr/>
              <p:nvPr/>
            </p:nvSpPr>
            <p:spPr>
              <a:xfrm>
                <a:off x="4275000" y="3532320"/>
                <a:ext cx="9885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scending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ry air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bsorb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ist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11"/>
              <p:cNvSpPr/>
              <p:nvPr/>
            </p:nvSpPr>
            <p:spPr>
              <a:xfrm>
                <a:off x="2469960" y="4576680"/>
                <a:ext cx="833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Doldrums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2"/>
              <p:cNvSpPr/>
              <p:nvPr/>
            </p:nvSpPr>
            <p:spPr>
              <a:xfrm>
                <a:off x="996480" y="5183280"/>
                <a:ext cx="953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emperate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zon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3"/>
              <p:cNvSpPr/>
              <p:nvPr/>
            </p:nvSpPr>
            <p:spPr>
              <a:xfrm>
                <a:off x="2590200" y="5280120"/>
                <a:ext cx="732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ropics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Text Box 14"/>
              <p:cNvSpPr/>
              <p:nvPr/>
            </p:nvSpPr>
            <p:spPr>
              <a:xfrm>
                <a:off x="4068000" y="5165640"/>
                <a:ext cx="953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emperate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zon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Text Box 15"/>
              <p:cNvSpPr/>
              <p:nvPr/>
            </p:nvSpPr>
            <p:spPr>
              <a:xfrm>
                <a:off x="1330200" y="4932360"/>
                <a:ext cx="407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0º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16"/>
              <p:cNvSpPr/>
              <p:nvPr/>
            </p:nvSpPr>
            <p:spPr>
              <a:xfrm>
                <a:off x="1833480" y="4816440"/>
                <a:ext cx="690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3.5º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17"/>
              <p:cNvSpPr/>
              <p:nvPr/>
            </p:nvSpPr>
            <p:spPr>
              <a:xfrm>
                <a:off x="2767320" y="4792680"/>
                <a:ext cx="32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º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18"/>
              <p:cNvSpPr/>
              <p:nvPr/>
            </p:nvSpPr>
            <p:spPr>
              <a:xfrm>
                <a:off x="3539520" y="4808520"/>
                <a:ext cx="535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3.5º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19"/>
              <p:cNvSpPr/>
              <p:nvPr/>
            </p:nvSpPr>
            <p:spPr>
              <a:xfrm>
                <a:off x="4151160" y="4916520"/>
                <a:ext cx="407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0º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31"/>
            <p:cNvGrpSpPr/>
            <p:nvPr/>
          </p:nvGrpSpPr>
          <p:grpSpPr>
            <a:xfrm>
              <a:off x="5400360" y="2187720"/>
              <a:ext cx="3743280" cy="3579840"/>
              <a:chOff x="5400360" y="2187720"/>
              <a:chExt cx="3743280" cy="3579840"/>
            </a:xfrm>
          </p:grpSpPr>
          <p:pic>
            <p:nvPicPr>
              <p:cNvPr id="338" name="Picture 21" descr="_x001a_34_06dPrevailingWind_U.jpg                                     0051D989_x0003_203                            BE7A9149:"/>
              <p:cNvPicPr/>
              <p:nvPr/>
            </p:nvPicPr>
            <p:blipFill>
              <a:blip r:embed="rId2"/>
              <a:stretch/>
            </p:blipFill>
            <p:spPr>
              <a:xfrm>
                <a:off x="5400360" y="2187720"/>
                <a:ext cx="3693960" cy="357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Text Box 22"/>
              <p:cNvSpPr/>
              <p:nvPr/>
            </p:nvSpPr>
            <p:spPr>
              <a:xfrm>
                <a:off x="8380080" y="2903400"/>
                <a:ext cx="51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60ºN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Text Box 23"/>
              <p:cNvSpPr/>
              <p:nvPr/>
            </p:nvSpPr>
            <p:spPr>
              <a:xfrm>
                <a:off x="8625960" y="3559320"/>
                <a:ext cx="51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0ºN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Text Box 24"/>
              <p:cNvSpPr/>
              <p:nvPr/>
            </p:nvSpPr>
            <p:spPr>
              <a:xfrm>
                <a:off x="8071920" y="5073480"/>
                <a:ext cx="509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0ºS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Text Box 26"/>
          <p:cNvSpPr/>
          <p:nvPr/>
        </p:nvSpPr>
        <p:spPr>
          <a:xfrm>
            <a:off x="190080" y="589104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ure 34.6C, 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Ocean current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433520" indent="-29052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Influence coastal climate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344" name="Group 28"/>
          <p:cNvGrpSpPr/>
          <p:nvPr/>
        </p:nvGrpSpPr>
        <p:grpSpPr>
          <a:xfrm>
            <a:off x="1563840" y="1752480"/>
            <a:ext cx="6140160" cy="4801320"/>
            <a:chOff x="1563840" y="1752480"/>
            <a:chExt cx="6140160" cy="4801320"/>
          </a:xfrm>
        </p:grpSpPr>
        <p:grpSp>
          <p:nvGrpSpPr>
            <p:cNvPr id="345" name="Group 26"/>
            <p:cNvGrpSpPr/>
            <p:nvPr/>
          </p:nvGrpSpPr>
          <p:grpSpPr>
            <a:xfrm>
              <a:off x="1563840" y="1752480"/>
              <a:ext cx="6140160" cy="4610160"/>
              <a:chOff x="1563840" y="1752480"/>
              <a:chExt cx="6140160" cy="4610160"/>
            </a:xfrm>
          </p:grpSpPr>
          <p:pic>
            <p:nvPicPr>
              <p:cNvPr id="346" name="Picture 5" descr="_x0019_34_06eSoCalSumTemps_U.jpg                                      0051D989_x0003_203                            BE7A9149:"/>
              <p:cNvPicPr/>
              <p:nvPr/>
            </p:nvPicPr>
            <p:blipFill>
              <a:blip r:embed="rId1"/>
              <a:stretch/>
            </p:blipFill>
            <p:spPr>
              <a:xfrm>
                <a:off x="1563840" y="1752480"/>
                <a:ext cx="6140160" cy="461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Text Box 6"/>
              <p:cNvSpPr/>
              <p:nvPr/>
            </p:nvSpPr>
            <p:spPr>
              <a:xfrm>
                <a:off x="3806280" y="2014560"/>
                <a:ext cx="6469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Fresno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104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Text Box 7"/>
              <p:cNvSpPr/>
              <p:nvPr/>
            </p:nvSpPr>
            <p:spPr>
              <a:xfrm>
                <a:off x="3318480" y="3163680"/>
                <a:ext cx="102060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aso Robles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93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Text Box 8"/>
              <p:cNvSpPr/>
              <p:nvPr/>
            </p:nvSpPr>
            <p:spPr>
              <a:xfrm>
                <a:off x="4369680" y="3294000"/>
                <a:ext cx="936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Bakersfield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106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Text Box 9"/>
              <p:cNvSpPr/>
              <p:nvPr/>
            </p:nvSpPr>
            <p:spPr>
              <a:xfrm>
                <a:off x="5811480" y="2479680"/>
                <a:ext cx="58608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Death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Valley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119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Text Box 10"/>
              <p:cNvSpPr/>
              <p:nvPr/>
            </p:nvSpPr>
            <p:spPr>
              <a:xfrm>
                <a:off x="1884600" y="3738600"/>
                <a:ext cx="11012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Arial"/>
                  </a:rPr>
                  <a:t>Pacific Ocean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Text Box 11"/>
              <p:cNvSpPr/>
              <p:nvPr/>
            </p:nvSpPr>
            <p:spPr>
              <a:xfrm>
                <a:off x="2517480" y="4324320"/>
                <a:ext cx="1377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Santa Barbara 75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Text Box 12"/>
              <p:cNvSpPr/>
              <p:nvPr/>
            </p:nvSpPr>
            <p:spPr>
              <a:xfrm>
                <a:off x="3781800" y="4671720"/>
                <a:ext cx="95040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os Angeles</a:t>
                </a:r>
                <a:br>
                  <a:rPr sz="1100"/>
                </a:b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Airport) 74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13"/>
              <p:cNvSpPr/>
              <p:nvPr/>
            </p:nvSpPr>
            <p:spPr>
              <a:xfrm>
                <a:off x="4523040" y="5886360"/>
                <a:ext cx="11120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San Diego 75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14"/>
              <p:cNvSpPr/>
              <p:nvPr/>
            </p:nvSpPr>
            <p:spPr>
              <a:xfrm>
                <a:off x="6710040" y="2057400"/>
                <a:ext cx="702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40 miles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Text Box 15"/>
              <p:cNvSpPr/>
              <p:nvPr/>
            </p:nvSpPr>
            <p:spPr>
              <a:xfrm>
                <a:off x="5695200" y="4389480"/>
                <a:ext cx="1547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San Bernardino 101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Text Box 16"/>
              <p:cNvSpPr/>
              <p:nvPr/>
            </p:nvSpPr>
            <p:spPr>
              <a:xfrm>
                <a:off x="5584320" y="4638600"/>
                <a:ext cx="1058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Riverside 91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Text Box 17"/>
              <p:cNvSpPr/>
              <p:nvPr/>
            </p:nvSpPr>
            <p:spPr>
              <a:xfrm>
                <a:off x="6203880" y="4986360"/>
                <a:ext cx="1401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alm Springs 104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 Box 18"/>
              <p:cNvSpPr/>
              <p:nvPr/>
            </p:nvSpPr>
            <p:spPr>
              <a:xfrm>
                <a:off x="4804560" y="4259160"/>
                <a:ext cx="747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Burbank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86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Text Box 19"/>
              <p:cNvSpPr/>
              <p:nvPr/>
            </p:nvSpPr>
            <p:spPr>
              <a:xfrm>
                <a:off x="5195160" y="4856040"/>
                <a:ext cx="86508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Santa Ana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84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Text Box 20"/>
              <p:cNvSpPr/>
              <p:nvPr/>
            </p:nvSpPr>
            <p:spPr>
              <a:xfrm>
                <a:off x="1881360" y="4572000"/>
                <a:ext cx="441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Text Box 21"/>
              <p:cNvSpPr/>
              <p:nvPr/>
            </p:nvSpPr>
            <p:spPr>
              <a:xfrm>
                <a:off x="2143440" y="4779720"/>
                <a:ext cx="685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70s (ºF)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Text Box 22"/>
              <p:cNvSpPr/>
              <p:nvPr/>
            </p:nvSpPr>
            <p:spPr>
              <a:xfrm>
                <a:off x="2144880" y="5062320"/>
                <a:ext cx="414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80s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Text Box 23"/>
              <p:cNvSpPr/>
              <p:nvPr/>
            </p:nvSpPr>
            <p:spPr>
              <a:xfrm>
                <a:off x="2124000" y="5322600"/>
                <a:ext cx="414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90s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Text Box 24"/>
              <p:cNvSpPr/>
              <p:nvPr/>
            </p:nvSpPr>
            <p:spPr>
              <a:xfrm>
                <a:off x="2133720" y="5572080"/>
                <a:ext cx="491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100s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Text Box 25"/>
              <p:cNvSpPr/>
              <p:nvPr/>
            </p:nvSpPr>
            <p:spPr>
              <a:xfrm>
                <a:off x="2086200" y="5832360"/>
                <a:ext cx="491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110s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7" name="Text Box 27"/>
            <p:cNvSpPr/>
            <p:nvPr/>
          </p:nvSpPr>
          <p:spPr>
            <a:xfrm>
              <a:off x="1659240" y="6246720"/>
              <a:ext cx="12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6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Mysterious Giant of the Dee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re are about 1,000 known species of squid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But until recently, no one had reported on this “mystery squid”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Picture 4" descr="_x000f_34_UN682_UP.jpg                                                0051D989_x0003_203                            BE7C51E9:"/>
          <p:cNvPicPr/>
          <p:nvPr/>
        </p:nvPicPr>
        <p:blipFill>
          <a:blip r:embed="rId1"/>
          <a:stretch/>
        </p:blipFill>
        <p:spPr>
          <a:xfrm>
            <a:off x="2228760" y="3254400"/>
            <a:ext cx="46609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4"/>
          <p:cNvGrpSpPr/>
          <p:nvPr/>
        </p:nvGrpSpPr>
        <p:grpSpPr>
          <a:xfrm>
            <a:off x="330120" y="1751040"/>
            <a:ext cx="8597880" cy="4777560"/>
            <a:chOff x="330120" y="1751040"/>
            <a:chExt cx="8597880" cy="4777560"/>
          </a:xfrm>
        </p:grpSpPr>
        <p:grpSp>
          <p:nvGrpSpPr>
            <p:cNvPr id="369" name="Group 4"/>
            <p:cNvGrpSpPr/>
            <p:nvPr/>
          </p:nvGrpSpPr>
          <p:grpSpPr>
            <a:xfrm>
              <a:off x="330120" y="1751040"/>
              <a:ext cx="8597880" cy="4706640"/>
              <a:chOff x="330120" y="1751040"/>
              <a:chExt cx="8597880" cy="4706640"/>
            </a:xfrm>
          </p:grpSpPr>
          <p:pic>
            <p:nvPicPr>
              <p:cNvPr id="370" name="Picture 5" descr="_x001f_34_06fMountainAndRainfall_U.jpg                                0051D989_x0003_203                            BE7A9149:"/>
              <p:cNvPicPr/>
              <p:nvPr/>
            </p:nvPicPr>
            <p:blipFill>
              <a:blip r:embed="rId1"/>
              <a:stretch/>
            </p:blipFill>
            <p:spPr>
              <a:xfrm>
                <a:off x="330120" y="1751040"/>
                <a:ext cx="8597880" cy="47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Text Box 6"/>
              <p:cNvSpPr/>
              <p:nvPr/>
            </p:nvSpPr>
            <p:spPr>
              <a:xfrm>
                <a:off x="849960" y="4341600"/>
                <a:ext cx="756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acific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cean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7"/>
              <p:cNvSpPr/>
              <p:nvPr/>
            </p:nvSpPr>
            <p:spPr>
              <a:xfrm>
                <a:off x="1155600" y="4838400"/>
                <a:ext cx="0" cy="203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Text Box 8"/>
              <p:cNvSpPr/>
              <p:nvPr/>
            </p:nvSpPr>
            <p:spPr>
              <a:xfrm>
                <a:off x="3150360" y="5344920"/>
                <a:ext cx="723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ast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ange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Text Box 9"/>
              <p:cNvSpPr/>
              <p:nvPr/>
            </p:nvSpPr>
            <p:spPr>
              <a:xfrm>
                <a:off x="3962160" y="3808440"/>
                <a:ext cx="933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Wind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irection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10"/>
              <p:cNvSpPr/>
              <p:nvPr/>
            </p:nvSpPr>
            <p:spPr>
              <a:xfrm>
                <a:off x="4305240" y="4292640"/>
                <a:ext cx="12600" cy="190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Text Box 11"/>
              <p:cNvSpPr/>
              <p:nvPr/>
            </p:nvSpPr>
            <p:spPr>
              <a:xfrm>
                <a:off x="5918400" y="5205240"/>
                <a:ext cx="813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ierra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Nevada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Text Box 12"/>
              <p:cNvSpPr/>
              <p:nvPr/>
            </p:nvSpPr>
            <p:spPr>
              <a:xfrm>
                <a:off x="7619760" y="3808440"/>
                <a:ext cx="55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as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8" name="Text Box 13"/>
            <p:cNvSpPr/>
            <p:nvPr/>
          </p:nvSpPr>
          <p:spPr>
            <a:xfrm>
              <a:off x="412560" y="62215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6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"/>
          <p:cNvSpPr txBox="1"/>
          <p:nvPr/>
        </p:nvSpPr>
        <p:spPr>
          <a:xfrm>
            <a:off x="304920" y="312840"/>
            <a:ext cx="853416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andforms such as mountain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ffect rainfal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7 Oceans occupy most of Earth’s surfa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everal characteristics shape ocean communiti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Light, distance from shore, and the availability of nutrient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467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intertidal zone, an oceanic zon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Is the area of shore where the ocean meets the land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383" name="Group 6"/>
          <p:cNvGrpSpPr/>
          <p:nvPr/>
        </p:nvGrpSpPr>
        <p:grpSpPr>
          <a:xfrm>
            <a:off x="1157400" y="2011320"/>
            <a:ext cx="5032080" cy="3917880"/>
            <a:chOff x="1157400" y="2011320"/>
            <a:chExt cx="5032080" cy="3917880"/>
          </a:xfrm>
        </p:grpSpPr>
        <p:pic>
          <p:nvPicPr>
            <p:cNvPr id="384" name="Picture 4" descr="_x001b_34_07aIntertidalZone_UP.jpg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2786040" y="2011320"/>
              <a:ext cx="3403440" cy="39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Text Box 5"/>
            <p:cNvSpPr/>
            <p:nvPr/>
          </p:nvSpPr>
          <p:spPr>
            <a:xfrm>
              <a:off x="1157400" y="5418000"/>
              <a:ext cx="12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7A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Oceanic zones also includ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The pelagic and benthic zone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387" name="Group 26"/>
          <p:cNvGrpSpPr/>
          <p:nvPr/>
        </p:nvGrpSpPr>
        <p:grpSpPr>
          <a:xfrm>
            <a:off x="2484360" y="1967040"/>
            <a:ext cx="5224680" cy="4487760"/>
            <a:chOff x="2484360" y="1967040"/>
            <a:chExt cx="5224680" cy="4487760"/>
          </a:xfrm>
        </p:grpSpPr>
        <p:pic>
          <p:nvPicPr>
            <p:cNvPr id="388" name="Picture 5" descr="_x0018_34_07bOceanicZones_U.jpg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2484360" y="2236680"/>
              <a:ext cx="5224680" cy="42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6"/>
            <p:cNvSpPr/>
            <p:nvPr/>
          </p:nvSpPr>
          <p:spPr>
            <a:xfrm>
              <a:off x="4093920" y="1967040"/>
              <a:ext cx="130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ertidal zon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 flipH="1">
              <a:off x="4475160" y="2238480"/>
              <a:ext cx="100080" cy="280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Text Box 8"/>
            <p:cNvSpPr/>
            <p:nvPr/>
          </p:nvSpPr>
          <p:spPr>
            <a:xfrm>
              <a:off x="5492520" y="3035160"/>
              <a:ext cx="111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ic zon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9"/>
            <p:cNvSpPr/>
            <p:nvPr/>
          </p:nvSpPr>
          <p:spPr>
            <a:xfrm>
              <a:off x="2736720" y="2921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Text Box 10"/>
            <p:cNvSpPr/>
            <p:nvPr/>
          </p:nvSpPr>
          <p:spPr>
            <a:xfrm>
              <a:off x="2746440" y="32288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 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AutoShape 11"/>
            <p:cNvSpPr/>
            <p:nvPr/>
          </p:nvSpPr>
          <p:spPr>
            <a:xfrm rot="17400000">
              <a:off x="3970440" y="2957040"/>
              <a:ext cx="50760" cy="520560"/>
            </a:xfrm>
            <a:custGeom>
              <a:avLst/>
              <a:gdLst>
                <a:gd name="textAreaLeft" fmla="*/ 32400 w 50760"/>
                <a:gd name="textAreaRight" fmla="*/ 51120 w 50760"/>
                <a:gd name="textAreaTop" fmla="*/ 13320 h 520560"/>
                <a:gd name="textAreaBottom" fmla="*/ 507240 h 52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3326760" y="3376440"/>
              <a:ext cx="108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inental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hel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13"/>
            <p:cNvSpPr/>
            <p:nvPr/>
          </p:nvSpPr>
          <p:spPr>
            <a:xfrm flipH="1">
              <a:off x="3825360" y="3224160"/>
              <a:ext cx="171720" cy="190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14"/>
            <p:cNvSpPr/>
            <p:nvPr/>
          </p:nvSpPr>
          <p:spPr>
            <a:xfrm>
              <a:off x="2743560" y="5584680"/>
              <a:ext cx="137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,500–6,000 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Text Box 15"/>
            <p:cNvSpPr/>
            <p:nvPr/>
          </p:nvSpPr>
          <p:spPr>
            <a:xfrm>
              <a:off x="4881240" y="4029120"/>
              <a:ext cx="121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nthic zone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seafloor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Text Box 16"/>
            <p:cNvSpPr/>
            <p:nvPr/>
          </p:nvSpPr>
          <p:spPr>
            <a:xfrm>
              <a:off x="6851880" y="3478320"/>
              <a:ext cx="76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lagic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zon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Text Box 17"/>
            <p:cNvSpPr/>
            <p:nvPr/>
          </p:nvSpPr>
          <p:spPr>
            <a:xfrm>
              <a:off x="6524640" y="4097160"/>
              <a:ext cx="7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hotic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zon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AutoShape 18"/>
            <p:cNvSpPr/>
            <p:nvPr/>
          </p:nvSpPr>
          <p:spPr>
            <a:xfrm rot="6403800">
              <a:off x="4409280" y="2343600"/>
              <a:ext cx="125280" cy="412560"/>
            </a:xfrm>
            <a:custGeom>
              <a:avLst/>
              <a:gdLst>
                <a:gd name="textAreaLeft" fmla="*/ 79920 w 125280"/>
                <a:gd name="textAreaRight" fmla="*/ 125640 w 125280"/>
                <a:gd name="textAreaTop" fmla="*/ 10440 h 412560"/>
                <a:gd name="textAreaBottom" fmla="*/ 402120 h 41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Text Box 20"/>
          <p:cNvSpPr/>
          <p:nvPr/>
        </p:nvSpPr>
        <p:spPr>
          <a:xfrm>
            <a:off x="944640" y="586908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ure 34.7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oral reef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re found in warm waters above continental shelve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04" name="Group 6"/>
          <p:cNvGrpSpPr/>
          <p:nvPr/>
        </p:nvGrpSpPr>
        <p:grpSpPr>
          <a:xfrm>
            <a:off x="801720" y="2189160"/>
            <a:ext cx="7353000" cy="3994200"/>
            <a:chOff x="801720" y="2189160"/>
            <a:chExt cx="7353000" cy="3994200"/>
          </a:xfrm>
        </p:grpSpPr>
        <p:pic>
          <p:nvPicPr>
            <p:cNvPr id="405" name="Picture 4" descr="_x0016_34_07cCoralReef_UP.jpg  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2419200" y="2189160"/>
              <a:ext cx="5735520" cy="39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Text Box 5"/>
            <p:cNvSpPr/>
            <p:nvPr/>
          </p:nvSpPr>
          <p:spPr>
            <a:xfrm>
              <a:off x="801720" y="5707080"/>
              <a:ext cx="12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7C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stuari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481040" indent="-33804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re productive areas where rivers flow into the ocean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08" name="Group 6"/>
          <p:cNvGrpSpPr/>
          <p:nvPr/>
        </p:nvGrpSpPr>
        <p:grpSpPr>
          <a:xfrm>
            <a:off x="1794240" y="2211480"/>
            <a:ext cx="6670440" cy="3865320"/>
            <a:chOff x="1794240" y="2211480"/>
            <a:chExt cx="6670440" cy="3865320"/>
          </a:xfrm>
        </p:grpSpPr>
        <p:pic>
          <p:nvPicPr>
            <p:cNvPr id="409" name="Picture 4" descr="_x0014_34_07dEstuary_UP.jpg    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3284640" y="2211480"/>
              <a:ext cx="5180040" cy="38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 Box 5"/>
            <p:cNvSpPr/>
            <p:nvPr/>
          </p:nvSpPr>
          <p:spPr>
            <a:xfrm>
              <a:off x="1794240" y="5745240"/>
              <a:ext cx="12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7D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8 Freshwater biomes include lakes, ponds, rivers, streams, and wetland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Factors that shape lake and pond communities includ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Light, temperature, and the availability of nutrients and dissolved oxygen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biotic factors change from the source of a river to its mouth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nd communities vary accordingly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13" name="Group 6"/>
          <p:cNvGrpSpPr/>
          <p:nvPr/>
        </p:nvGrpSpPr>
        <p:grpSpPr>
          <a:xfrm>
            <a:off x="2754360" y="3048120"/>
            <a:ext cx="2941560" cy="3429000"/>
            <a:chOff x="2754360" y="3048120"/>
            <a:chExt cx="2941560" cy="3429000"/>
          </a:xfrm>
        </p:grpSpPr>
        <p:pic>
          <p:nvPicPr>
            <p:cNvPr id="414" name="Picture 4" descr="_x0013_34_08aStream_UP.jpg     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3913200" y="3048120"/>
              <a:ext cx="17827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5"/>
            <p:cNvSpPr/>
            <p:nvPr/>
          </p:nvSpPr>
          <p:spPr>
            <a:xfrm>
              <a:off x="2754360" y="6157800"/>
              <a:ext cx="12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8A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Wetlands includ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430280" indent="-287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Marshes and swamp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17" name="Group 6"/>
          <p:cNvGrpSpPr/>
          <p:nvPr/>
        </p:nvGrpSpPr>
        <p:grpSpPr>
          <a:xfrm>
            <a:off x="1892160" y="2044800"/>
            <a:ext cx="5423040" cy="4381920"/>
            <a:chOff x="1892160" y="2044800"/>
            <a:chExt cx="5423040" cy="4381920"/>
          </a:xfrm>
        </p:grpSpPr>
        <p:pic>
          <p:nvPicPr>
            <p:cNvPr id="418" name="Picture 4" descr="_x0014_34_08bWetland_UP.jpg    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1892160" y="2044800"/>
              <a:ext cx="5423040" cy="41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 Box 5"/>
            <p:cNvSpPr/>
            <p:nvPr/>
          </p:nvSpPr>
          <p:spPr>
            <a:xfrm>
              <a:off x="1928880" y="6119640"/>
              <a:ext cx="12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8B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9 Terrestrial biomes reflect regional variations in climat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emperature and rainfal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Mainly determine the terrestrial biome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467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Deep-sea submersibl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re allowing scientists to study uncharted depths of the ocean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Picture 4" descr="_x0013_34_A683Alvin_UP.jpg                                            0051D989_x0003_203                            BE7A9149:"/>
          <p:cNvPicPr/>
          <p:nvPr/>
        </p:nvPicPr>
        <p:blipFill>
          <a:blip r:embed="rId1"/>
          <a:stretch/>
        </p:blipFill>
        <p:spPr>
          <a:xfrm>
            <a:off x="1878120" y="2498760"/>
            <a:ext cx="5843520" cy="39751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5"/>
          <p:cNvSpPr/>
          <p:nvPr/>
        </p:nvSpPr>
        <p:spPr>
          <a:xfrm>
            <a:off x="1106640" y="60944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ure 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Major terrestrial biom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grpSp>
        <p:nvGrpSpPr>
          <p:cNvPr id="423" name="Group 22"/>
          <p:cNvGrpSpPr/>
          <p:nvPr/>
        </p:nvGrpSpPr>
        <p:grpSpPr>
          <a:xfrm>
            <a:off x="177840" y="1251000"/>
            <a:ext cx="8966160" cy="5226840"/>
            <a:chOff x="177840" y="1251000"/>
            <a:chExt cx="8966160" cy="5226840"/>
          </a:xfrm>
        </p:grpSpPr>
        <p:grpSp>
          <p:nvGrpSpPr>
            <p:cNvPr id="424" name="Group 4"/>
            <p:cNvGrpSpPr/>
            <p:nvPr/>
          </p:nvGrpSpPr>
          <p:grpSpPr>
            <a:xfrm>
              <a:off x="177840" y="1251000"/>
              <a:ext cx="8966160" cy="5111640"/>
              <a:chOff x="177840" y="1251000"/>
              <a:chExt cx="8966160" cy="5111640"/>
            </a:xfrm>
          </p:grpSpPr>
          <p:pic>
            <p:nvPicPr>
              <p:cNvPr id="425" name="Picture 5" descr="_x001e_34_09TerretrialBiomesMap_U.jpg                                 0051D989_x0003_203                            BE7A9149: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251000"/>
                <a:ext cx="8966160" cy="511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Text Box 6"/>
              <p:cNvSpPr/>
              <p:nvPr/>
            </p:nvSpPr>
            <p:spPr>
              <a:xfrm>
                <a:off x="721800" y="2614320"/>
                <a:ext cx="57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ºN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Text Box 7"/>
              <p:cNvSpPr/>
              <p:nvPr/>
            </p:nvSpPr>
            <p:spPr>
              <a:xfrm>
                <a:off x="617400" y="2919240"/>
                <a:ext cx="942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ropic of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ancer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Text Box 8"/>
              <p:cNvSpPr/>
              <p:nvPr/>
            </p:nvSpPr>
            <p:spPr>
              <a:xfrm>
                <a:off x="745560" y="3490560"/>
                <a:ext cx="80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quator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Text Box 9"/>
              <p:cNvSpPr/>
              <p:nvPr/>
            </p:nvSpPr>
            <p:spPr>
              <a:xfrm>
                <a:off x="631440" y="3833640"/>
                <a:ext cx="953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ropic o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pricorn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Text Box 10"/>
              <p:cNvSpPr/>
              <p:nvPr/>
            </p:nvSpPr>
            <p:spPr>
              <a:xfrm>
                <a:off x="746640" y="4367160"/>
                <a:ext cx="563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ºS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Text Box 11"/>
              <p:cNvSpPr/>
              <p:nvPr/>
            </p:nvSpPr>
            <p:spPr>
              <a:xfrm>
                <a:off x="1377720" y="5128920"/>
                <a:ext cx="131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opical fores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Text Box 12"/>
              <p:cNvSpPr/>
              <p:nvPr/>
            </p:nvSpPr>
            <p:spPr>
              <a:xfrm>
                <a:off x="1393560" y="5395680"/>
                <a:ext cx="88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avanna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3"/>
              <p:cNvSpPr/>
              <p:nvPr/>
            </p:nvSpPr>
            <p:spPr>
              <a:xfrm>
                <a:off x="1393560" y="5636880"/>
                <a:ext cx="70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er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Text Box 14"/>
              <p:cNvSpPr/>
              <p:nvPr/>
            </p:nvSpPr>
            <p:spPr>
              <a:xfrm>
                <a:off x="1393560" y="5879880"/>
                <a:ext cx="96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haparral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Text Box 15"/>
              <p:cNvSpPr/>
              <p:nvPr/>
            </p:nvSpPr>
            <p:spPr>
              <a:xfrm>
                <a:off x="3650040" y="5116320"/>
                <a:ext cx="1866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emperate grassland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Text Box 16"/>
              <p:cNvSpPr/>
              <p:nvPr/>
            </p:nvSpPr>
            <p:spPr>
              <a:xfrm>
                <a:off x="3646800" y="5395680"/>
                <a:ext cx="233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emperate broadleaf fores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Text Box 17"/>
              <p:cNvSpPr/>
              <p:nvPr/>
            </p:nvSpPr>
            <p:spPr>
              <a:xfrm>
                <a:off x="3650400" y="5636880"/>
                <a:ext cx="1541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iferous fores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Text Box 18"/>
              <p:cNvSpPr/>
              <p:nvPr/>
            </p:nvSpPr>
            <p:spPr>
              <a:xfrm>
                <a:off x="3654360" y="5891040"/>
                <a:ext cx="744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undra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Text Box 19"/>
              <p:cNvSpPr/>
              <p:nvPr/>
            </p:nvSpPr>
            <p:spPr>
              <a:xfrm>
                <a:off x="6548040" y="5128920"/>
                <a:ext cx="141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igh mountains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Text Box 20"/>
              <p:cNvSpPr/>
              <p:nvPr/>
            </p:nvSpPr>
            <p:spPr>
              <a:xfrm>
                <a:off x="6549480" y="5383080"/>
                <a:ext cx="87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lar ice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1" name="Text Box 21"/>
            <p:cNvSpPr/>
            <p:nvPr/>
          </p:nvSpPr>
          <p:spPr>
            <a:xfrm>
              <a:off x="591120" y="6170760"/>
              <a:ext cx="108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gure 34.9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10 Tropical forests cluster near the equat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opical rain forest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48104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re the most diverse ecosystem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43" name="Group 6"/>
          <p:cNvGrpSpPr/>
          <p:nvPr/>
        </p:nvGrpSpPr>
        <p:grpSpPr>
          <a:xfrm>
            <a:off x="351000" y="2682720"/>
            <a:ext cx="8589960" cy="3789360"/>
            <a:chOff x="351000" y="2682720"/>
            <a:chExt cx="8589960" cy="3789360"/>
          </a:xfrm>
        </p:grpSpPr>
        <p:pic>
          <p:nvPicPr>
            <p:cNvPr id="444" name="Picture 4" descr="_x001f_34_10TropicalRainForest_CNL.jpg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351000" y="2682720"/>
              <a:ext cx="8589960" cy="37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Text Box 5"/>
            <p:cNvSpPr/>
            <p:nvPr/>
          </p:nvSpPr>
          <p:spPr>
            <a:xfrm>
              <a:off x="367200" y="59292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10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04920" y="685440"/>
            <a:ext cx="853416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11 Savannas are grasslands with scattered tre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avanna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re dry and warm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1216080" y="59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293760" y="3233880"/>
            <a:ext cx="8380440" cy="3068640"/>
            <a:chOff x="293760" y="3233880"/>
            <a:chExt cx="8380440" cy="3068640"/>
          </a:xfrm>
        </p:grpSpPr>
        <p:pic>
          <p:nvPicPr>
            <p:cNvPr id="449" name="Picture 4" descr="_x0014_34_11Savanna_CNL.jpg    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293760" y="3233880"/>
              <a:ext cx="8380440" cy="30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Text Box 7"/>
            <p:cNvSpPr/>
            <p:nvPr/>
          </p:nvSpPr>
          <p:spPr>
            <a:xfrm>
              <a:off x="714240" y="586584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1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12 Deserts are defined by their dryn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Desert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re the driest biome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52" name="Group 6"/>
          <p:cNvGrpSpPr/>
          <p:nvPr/>
        </p:nvGrpSpPr>
        <p:grpSpPr>
          <a:xfrm>
            <a:off x="237960" y="2789280"/>
            <a:ext cx="8378640" cy="3641760"/>
            <a:chOff x="237960" y="2789280"/>
            <a:chExt cx="8378640" cy="3641760"/>
          </a:xfrm>
        </p:grpSpPr>
        <p:pic>
          <p:nvPicPr>
            <p:cNvPr id="453" name="Picture 4" descr="_x0013_34_12Desert_CNL.jpg     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1775160" y="2789280"/>
              <a:ext cx="6841440" cy="36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Text Box 5"/>
            <p:cNvSpPr/>
            <p:nvPr/>
          </p:nvSpPr>
          <p:spPr>
            <a:xfrm>
              <a:off x="237960" y="5799240"/>
              <a:ext cx="118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1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13 Spiny shrubs dominate the chaparr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chaparr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487520" indent="-34452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Is a shrubland with cool, rainy winters and dry, hot summer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56" name="Group 6"/>
          <p:cNvGrpSpPr/>
          <p:nvPr/>
        </p:nvGrpSpPr>
        <p:grpSpPr>
          <a:xfrm>
            <a:off x="3098520" y="2909880"/>
            <a:ext cx="5394600" cy="3419640"/>
            <a:chOff x="3098520" y="2909880"/>
            <a:chExt cx="5394600" cy="3419640"/>
          </a:xfrm>
        </p:grpSpPr>
        <p:pic>
          <p:nvPicPr>
            <p:cNvPr id="457" name="Picture 4" descr="_x0016_34_13Chaparral_CNL.jpg  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3159000" y="2909880"/>
              <a:ext cx="5334120" cy="34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5"/>
            <p:cNvSpPr/>
            <p:nvPr/>
          </p:nvSpPr>
          <p:spPr>
            <a:xfrm>
              <a:off x="3098520" y="589464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1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04920" y="685440"/>
            <a:ext cx="853416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14 Temperate grasslands include the North American prairi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emperate grassland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re found where winters are cold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60" name="Group 6"/>
          <p:cNvGrpSpPr/>
          <p:nvPr/>
        </p:nvGrpSpPr>
        <p:grpSpPr>
          <a:xfrm>
            <a:off x="1701720" y="3313080"/>
            <a:ext cx="5969160" cy="3113640"/>
            <a:chOff x="1701720" y="3313080"/>
            <a:chExt cx="5969160" cy="3113640"/>
          </a:xfrm>
        </p:grpSpPr>
        <p:pic>
          <p:nvPicPr>
            <p:cNvPr id="461" name="Picture 4" descr="_x001f_34_14TemperateGrassland_CNL.jpg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1701720" y="3313080"/>
              <a:ext cx="5969160" cy="29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Text Box 5"/>
            <p:cNvSpPr/>
            <p:nvPr/>
          </p:nvSpPr>
          <p:spPr>
            <a:xfrm>
              <a:off x="2809800" y="611964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14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6840" y="501480"/>
            <a:ext cx="7467480" cy="56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15 Broadleaf trees dominate temperate fores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emperate broadleaf forests grow throughout midlatitude region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Where there is sufficient moisture to support the growth of large tree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64" name="Group 6"/>
          <p:cNvGrpSpPr/>
          <p:nvPr/>
        </p:nvGrpSpPr>
        <p:grpSpPr>
          <a:xfrm>
            <a:off x="2466720" y="3429000"/>
            <a:ext cx="5295960" cy="3035880"/>
            <a:chOff x="2466720" y="3429000"/>
            <a:chExt cx="5295960" cy="3035880"/>
          </a:xfrm>
        </p:grpSpPr>
        <p:pic>
          <p:nvPicPr>
            <p:cNvPr id="465" name="Picture 4" descr="_x001c_34_15TemperateForest_CNL.jpg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3622320" y="3429000"/>
              <a:ext cx="4140360" cy="25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5"/>
            <p:cNvSpPr/>
            <p:nvPr/>
          </p:nvSpPr>
          <p:spPr>
            <a:xfrm>
              <a:off x="2466720" y="61578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15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16 Coniferous forests are often dominated by a few species of tre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northern coniferous forest, or taig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Is found where there are short summers, and long, snowy winter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68" name="Group 6"/>
          <p:cNvGrpSpPr/>
          <p:nvPr/>
        </p:nvGrpSpPr>
        <p:grpSpPr>
          <a:xfrm>
            <a:off x="1285560" y="3359160"/>
            <a:ext cx="7293240" cy="2979000"/>
            <a:chOff x="1285560" y="3359160"/>
            <a:chExt cx="7293240" cy="2979000"/>
          </a:xfrm>
        </p:grpSpPr>
        <p:pic>
          <p:nvPicPr>
            <p:cNvPr id="469" name="Picture 4" descr="_x001d_34_16ConiferousForest_CNL.jpg                                  0051D989_x0003_203                            BE7C51E9:"/>
            <p:cNvPicPr/>
            <p:nvPr/>
          </p:nvPicPr>
          <p:blipFill>
            <a:blip r:embed="rId1"/>
            <a:stretch/>
          </p:blipFill>
          <p:spPr>
            <a:xfrm>
              <a:off x="2909880" y="3359160"/>
              <a:ext cx="566892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Text Box 5"/>
            <p:cNvSpPr/>
            <p:nvPr/>
          </p:nvSpPr>
          <p:spPr>
            <a:xfrm>
              <a:off x="1285560" y="603108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16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17 Long, bitter-cold winters characterize the tundr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rctic tundr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Is a treeless biome characterized by extreme cold, wind, and permafrost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72" name="Group 6"/>
          <p:cNvGrpSpPr/>
          <p:nvPr/>
        </p:nvGrpSpPr>
        <p:grpSpPr>
          <a:xfrm>
            <a:off x="1879560" y="3638520"/>
            <a:ext cx="5638680" cy="2860560"/>
            <a:chOff x="1879560" y="3638520"/>
            <a:chExt cx="5638680" cy="2860560"/>
          </a:xfrm>
        </p:grpSpPr>
        <p:pic>
          <p:nvPicPr>
            <p:cNvPr id="473" name="Picture 4" descr="_x0013_34_17Tundra_CNL.jpg     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1879560" y="3638520"/>
              <a:ext cx="5638680" cy="28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Text Box 5"/>
            <p:cNvSpPr/>
            <p:nvPr/>
          </p:nvSpPr>
          <p:spPr>
            <a:xfrm>
              <a:off x="1920600" y="610704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17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lpine tundr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48104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Occurs above the treeline on high mountain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6"/>
          <p:cNvGrpSpPr/>
          <p:nvPr/>
        </p:nvGrpSpPr>
        <p:grpSpPr>
          <a:xfrm>
            <a:off x="911160" y="2489040"/>
            <a:ext cx="7075440" cy="3840120"/>
            <a:chOff x="911160" y="2489040"/>
            <a:chExt cx="7075440" cy="3840120"/>
          </a:xfrm>
        </p:grpSpPr>
        <p:pic>
          <p:nvPicPr>
            <p:cNvPr id="261" name="Picture 4" descr="_x001e_34_B683HydrothermalVent_UP.jpg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911160" y="3220920"/>
              <a:ext cx="4238640" cy="30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5" descr="_x0017_34_C683TubeWorms_UP.jpg                                        0051D989_x0003_203                            BE7A9149:"/>
            <p:cNvPicPr/>
            <p:nvPr/>
          </p:nvPicPr>
          <p:blipFill>
            <a:blip r:embed="rId2"/>
            <a:stretch/>
          </p:blipFill>
          <p:spPr>
            <a:xfrm>
              <a:off x="5368680" y="2489040"/>
              <a:ext cx="2617920" cy="384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t depths of up to 2,500 meter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cientists are observing new environments and a great variety of organism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928800" y="622152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ure 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5411880" y="622152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ure C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6840" y="1314360"/>
            <a:ext cx="746748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18 Ecologist Ariel Lugo studies tropical forests in Puerto Ric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Luquillo Experimental Forest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llows ecologists to study the effects of disruption on tropical forest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77" name="Rectangle 2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467920" cy="123192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8"/>
          <p:cNvGrpSpPr/>
          <p:nvPr/>
        </p:nvGrpSpPr>
        <p:grpSpPr>
          <a:xfrm>
            <a:off x="2591280" y="3600360"/>
            <a:ext cx="5828400" cy="2965320"/>
            <a:chOff x="2591280" y="3600360"/>
            <a:chExt cx="5828400" cy="2965320"/>
          </a:xfrm>
        </p:grpSpPr>
        <p:grpSp>
          <p:nvGrpSpPr>
            <p:cNvPr id="479" name="Group 6"/>
            <p:cNvGrpSpPr/>
            <p:nvPr/>
          </p:nvGrpSpPr>
          <p:grpSpPr>
            <a:xfrm>
              <a:off x="4422600" y="3600360"/>
              <a:ext cx="3997080" cy="2965320"/>
              <a:chOff x="4422600" y="3600360"/>
              <a:chExt cx="3997080" cy="2965320"/>
            </a:xfrm>
          </p:grpSpPr>
          <p:pic>
            <p:nvPicPr>
              <p:cNvPr id="480" name="Picture 4" descr="_x001b_34_18aLuquilloForest_UP.jpg                                    0051D989_x0003_203                            BE7A9149:"/>
              <p:cNvPicPr/>
              <p:nvPr/>
            </p:nvPicPr>
            <p:blipFill>
              <a:blip r:embed="rId2"/>
              <a:stretch/>
            </p:blipFill>
            <p:spPr>
              <a:xfrm>
                <a:off x="4422600" y="3601800"/>
                <a:ext cx="1885680" cy="296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1" name="Picture 5" descr="_x0016_34_18bArielLugo_UP.jpg                                         0051D989_x0003_203                            BE7A9149:"/>
              <p:cNvPicPr/>
              <p:nvPr/>
            </p:nvPicPr>
            <p:blipFill>
              <a:blip r:embed="rId3"/>
              <a:stretch/>
            </p:blipFill>
            <p:spPr>
              <a:xfrm>
                <a:off x="6335280" y="3600360"/>
                <a:ext cx="2084400" cy="2960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2" name="Text Box 7"/>
            <p:cNvSpPr/>
            <p:nvPr/>
          </p:nvSpPr>
          <p:spPr>
            <a:xfrm>
              <a:off x="2591280" y="6081840"/>
              <a:ext cx="157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18A, B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cology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Is the scientific study of the interactions of organisms with their environment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04920" y="685800"/>
            <a:ext cx="853416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34.1 Ecologists study how organisms interact with their environment at several level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t the organismal leve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cologists may examine how one kind of organism meets the challenges of its environ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68" name="Group 6"/>
          <p:cNvGrpSpPr/>
          <p:nvPr/>
        </p:nvGrpSpPr>
        <p:grpSpPr>
          <a:xfrm>
            <a:off x="3019320" y="3659040"/>
            <a:ext cx="4358880" cy="2636640"/>
            <a:chOff x="3019320" y="3659040"/>
            <a:chExt cx="4358880" cy="2636640"/>
          </a:xfrm>
        </p:grpSpPr>
        <p:sp>
          <p:nvSpPr>
            <p:cNvPr id="269" name="Text Box 4"/>
            <p:cNvSpPr/>
            <p:nvPr/>
          </p:nvSpPr>
          <p:spPr>
            <a:xfrm>
              <a:off x="3019320" y="591804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0" name="Picture 5" descr="_x0016_34_01GiantClams_UP.jpg                                         0051D989_x0003_203                            BE83D6DA:"/>
            <p:cNvPicPr/>
            <p:nvPr/>
          </p:nvPicPr>
          <p:blipFill>
            <a:blip r:embed="rId1"/>
            <a:stretch/>
          </p:blipFill>
          <p:spPr>
            <a:xfrm>
              <a:off x="4289400" y="3659040"/>
              <a:ext cx="3088800" cy="263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04920" y="685800"/>
            <a:ext cx="853416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t the population leve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Ecologists might study factors that limit population size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t the community leve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n ecologist might focus on interspecies interaction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cosystem interactions involv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Living (biotic) communities and nonliving (abiotic) physical and chemical factor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2 The biosphere is the total of all of Earth’s ecosystem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biospher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Is the global ecosystem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Rectangle 2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467920" cy="1231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6"/>
          <p:cNvGrpSpPr/>
          <p:nvPr/>
        </p:nvGrpSpPr>
        <p:grpSpPr>
          <a:xfrm>
            <a:off x="2706840" y="3495600"/>
            <a:ext cx="6130440" cy="3198960"/>
            <a:chOff x="2706840" y="3495600"/>
            <a:chExt cx="6130440" cy="3198960"/>
          </a:xfrm>
        </p:grpSpPr>
        <p:pic>
          <p:nvPicPr>
            <p:cNvPr id="276" name="Picture 4" descr="_x0018_34_02aViewOfEarth_UP.jpg                                       0051D989_x0003_203                            BE7A9149:"/>
            <p:cNvPicPr/>
            <p:nvPr/>
          </p:nvPicPr>
          <p:blipFill>
            <a:blip r:embed="rId2"/>
            <a:stretch/>
          </p:blipFill>
          <p:spPr>
            <a:xfrm>
              <a:off x="4248000" y="3495600"/>
              <a:ext cx="458928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5"/>
            <p:cNvSpPr/>
            <p:nvPr/>
          </p:nvSpPr>
          <p:spPr>
            <a:xfrm>
              <a:off x="2706840" y="6303600"/>
              <a:ext cx="12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2A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 </cp:lastModifiedBy>
  <cp:lastPrinted>2005-04-09T03:39:01Z</cp:lastPrinted>
  <dcterms:modified xsi:type="dcterms:W3CDTF">2010-03-23T00:11:07Z</dcterms:modified>
  <cp:revision>614</cp:revision>
  <dc:subject/>
  <dc:title>Slide 1</dc:title>
</cp:coreProperties>
</file>